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0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64FC-61A4-4AF9-8406-72F01921C8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though Google Docs &amp; Spreadsheets (http://docs.google.com) is currently the recommended online collaborative editing Web site, add the URL of the Web site you have chosen to u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7793-A064-49A6-B2A6-DF5ECA8905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657F-0A5D-437D-AA41-FFFF7582A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C7AA6-57ED-4247-8ECF-95134AB00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F3D1-E30F-425F-8078-305880332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675F-42E0-43D1-A98A-CD0FBA83C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CEBD-1741-42F1-9DB9-D9B181D58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FD45-D8A3-490E-9BB2-E8B73507B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694B-BBF4-49F2-94A7-EE230A5D4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DF71-44B3-4541-8421-BF8D17E20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DF65-9E69-4A23-81A8-048675C31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960F-2F98-4379-9670-480F693A3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B4ABC-480C-4F4C-893E-9ED5CF78B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62D17-250F-4C0D-BB53-D8C9205A7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CF36-41F3-4AB5-8652-0306EEB087B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Works_Cited_activitate2/citation_tools.htm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ctivity_4/Online_Surveys.htm" TargetMode="External"/><Relationship Id="rId2" Type="http://schemas.openxmlformats.org/officeDocument/2006/relationships/hyperlink" Target="file:///Activity_4/Online_Surveys.htm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ppt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356000" y="2819520"/>
            <a:ext cx="4457880" cy="2227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95480" y="0"/>
            <a:ext cx="5162400" cy="2125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920" y="2120760"/>
            <a:ext cx="886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c2e86"/>
                </a:solidFill>
                <a:latin typeface="Verdana"/>
              </a:rPr>
              <a:t>Predarea în societatea</a:t>
            </a:r>
            <a:r>
              <a:rPr b="0" lang="ro-RO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4000" spc="-1" strike="noStrike">
                <a:solidFill>
                  <a:srgbClr val="0c2e86"/>
                </a:solidFill>
                <a:latin typeface="Verdana"/>
              </a:rPr>
              <a:t>cunoaşteri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227160" y="5173560"/>
            <a:ext cx="54435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3931560" y="561168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133200" y="3459240"/>
            <a:ext cx="4135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2e86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0c2e86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0c2e86"/>
                </a:solidFill>
                <a:latin typeface="Verdana"/>
              </a:rPr>
              <a:t> Teach Pro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1CBF-D929-401A-8A43-89891570A9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2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Discutarea aspectelor legale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şi etice cu privire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 utilizarea tehnologiei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2019240"/>
            <a:ext cx="8237520" cy="36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Pas 2: Citarea surselor (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3.05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zualiz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resursele bibliografic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exemplele din directorul Modulul_3/Activitatea_2/Lucrari citate/Sablon referinte APA)de pe CD-ul cu resurse curricul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alv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formatul de bibliografie , formatul MLA sau formatul APA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folder-ul suport_unitat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portofoliul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e exempl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u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u numele Bibliografie sau referi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 (MLA= Modern Language Association; APA= American Psychological Association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ut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de asemenea utiliza un instrument de citare online care 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formata citatul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mod automat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formatul MLA sau APA (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citation_tools.htm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treaz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f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erele deschise pentru urm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arele activi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78A4-BA18-4A8B-8CE2-E7C5AAD6D0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6560" y="169560"/>
            <a:ext cx="89470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 3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tilizarea Internetului pentru cercetare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35 de minute) </a:t>
            </a:r>
            <a:br>
              <a:rPr sz="1200"/>
            </a:b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360" y="1219320"/>
            <a:ext cx="87314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as 1: Localizarea resurselor Internet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(3.06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fun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e de experien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pe care o av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, aleg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o op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une de 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tar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Op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t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iunea 1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Desf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ă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urarea unei 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u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ri pe baza de web (page 3.06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Optiunea 2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:Utilizarea motoarelor de 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utare specializate (page 3.0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Optiunea 3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G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sirea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i salvarea imaginilor, sunetelor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i filmelor video de pe site-uri web (page 3.0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as 2: Evaluarea resurselor web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(3.09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e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f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erele pentru evaluarea resurselor web, din modulul3/activitatea3(liste de verificare/evaluarea criti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inform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lor de pe Internet..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discut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cu un partener rezultatele acestei 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i modul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care i-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putea ajuta pe elevi 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evalueze mai critic resursele web pe care le utilizeaz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( http://lone-eagles.com/search6.htm-&gt; 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evaluarea critica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informatiilor de pe Intern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unit_plan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535800" y="5014800"/>
          <a:ext cx="1060560" cy="82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35800" y="5014800"/>
                    <a:ext cx="1060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DE83-7376-4E4D-926C-3F414D495A1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4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municarea cu lumea prin Interne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6189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Pas 1: Analizarea instrumentelor de comunicare prin Internet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(pag 3.10/ 20 minute)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strumente de comunicare bazate pe Interne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ff5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c00"/>
                </a:solidFill>
                <a:latin typeface="Verdana"/>
              </a:rPr>
              <a:t>E-mail=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o metod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de comunicar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tre dou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persoane;poate fi utilizat pentru multiple scopuri  educ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onale(ex: transmiterea prin mail a unei liste de probleme, a temelor..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ff5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c00"/>
                </a:solidFill>
                <a:latin typeface="Verdana"/>
              </a:rPr>
              <a:t>Chat-uri Online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=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amere virtuale, unde pe baza unui anumit topic de convers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e se “in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nesc’ persoane cu interese comune(elevii pot utiliza chat-urile pentru a adresa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treb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i, pentru a colabora cu colegii…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ff5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c00"/>
                </a:solidFill>
                <a:latin typeface="Verdana"/>
              </a:rPr>
              <a:t>Mesaje Instant (IM)=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permit oamenilor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solicit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trimi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mesaje text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timp real unor persoane de contact preselectate care sunt onlin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momentul respectiv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ff5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c00"/>
                </a:solidFill>
                <a:latin typeface="Verdana"/>
              </a:rPr>
              <a:t>Studiu/Sondaj de opinie =</a:t>
            </a:r>
            <a:r>
              <a:rPr b="1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oate fi realizat pentru a aduna, analiza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exporta datele de la reponden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;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ff5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c00"/>
                </a:solidFill>
                <a:latin typeface="Verdana"/>
              </a:rPr>
              <a:t>Protocol pentru Internet Voice Over (VoIP) =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o tehnologie de comunicare care permite persoanelor din toata lumea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vorbeasc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tre e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timp real sau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efectueze apeluri telefonice prin Internet( ex Skype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e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tabelul de la pag 3.11 pentru compararea posibili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lor de comunicare onli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Vezi pag B19 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B8F9-B6D4-4684-B47C-7729E7244E4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 4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Comunicarea cu lumea prin Interne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1680" y="1809360"/>
            <a:ext cx="875196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as 2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nalizaţi i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nstrumente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l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de comunicare pentru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 a le corela cu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unitatea dumneavoastr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lect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unul sau mai multe dintre urm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oarele instrumente de comunic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 pentru a-l examina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detaliu pentru o posibi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utiliz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unitatea dumneavoast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ptiunea 1: E-mail (page 3.12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ptiunea 2: Chat (page 3.13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ptiunea 3: Mesaje Instant (IM) (page 3.13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ptiunea 4: Studiu/</a:t>
            </a:r>
            <a:r>
              <a:rPr b="0" lang="en-US" sz="14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Sondaj</a:t>
            </a:r>
            <a:r>
              <a:rPr b="0" lang="en-US" sz="14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(page 3.14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ptiunea 5: Protocol pentru Internet Voice Over (VoIP) (page 3.15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tichet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marc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orice resur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u inform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 utile cu privire la modul de utilizare a acestor instrument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sala de cla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Not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Toate site-urile web men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onat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prezentul modul sunt disponibile  in f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erul”site-uri web pentru modulul 3” din  folder-ul Modulul3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304040" y="155520"/>
          <a:ext cx="1278000" cy="998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4040" y="155520"/>
                    <a:ext cx="127800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962680" y="130320"/>
          <a:ext cx="1163520" cy="90936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62680" y="130320"/>
                    <a:ext cx="116352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98DF-1140-467B-AC58-1B485830DFF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0160" y="272880"/>
            <a:ext cx="885348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5: Studiul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ţ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ii prin co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operare prin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web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pag 3.16/ 15 minute)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5760" y="2015640"/>
            <a:ext cx="8237520" cy="17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aliz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avantajel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dezavantajele fie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i resurse din 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tabelul de la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pag.3.16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apoi explor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online site-uri web de colaborare; aceste inform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i 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vor ajuta s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lu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considerare felul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care put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utiliza aceste instrumente pentru a sprijini obiectivele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colaborarea elevilor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cadrul uni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i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62640" y="3892680"/>
          <a:ext cx="1277640" cy="99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3892680"/>
                    <a:ext cx="127764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254320" y="3995640"/>
          <a:ext cx="1247760" cy="9748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4320" y="3995640"/>
                    <a:ext cx="124776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29DEE-7E72-403D-BEE3-C55BF43B078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 6: Utilizarea site-ului de colaborare online pentru a  schimb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ide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3.20/ 20 minute)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760" y="1761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zit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site-ul web de colaborarea online : </a:t>
            </a:r>
            <a:r>
              <a:rPr b="0" lang="en-US" sz="1600" spc="-1" strike="noStrike">
                <a:solidFill>
                  <a:srgbClr val="ff5c00"/>
                </a:solidFill>
                <a:latin typeface="Verdana"/>
              </a:rPr>
              <a:t>[docs.google.com]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ectare…………………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schi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programul online de calcul tabelar : </a:t>
            </a:r>
            <a:r>
              <a:rPr b="0" lang="en-US" sz="1600" spc="-1" strike="noStrike">
                <a:solidFill>
                  <a:srgbClr val="ff5c00"/>
                </a:solidFill>
                <a:latin typeface="Verdana"/>
              </a:rPr>
              <a:t>[]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schideţi fişa de lucru online şi căutaţi fişa care conţin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intervalul claselor la care pred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dumneavoast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tr-un tabulator din partea inferioa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f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şei de lucru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, unde av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atribuit un 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d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unde v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putea introduce inform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l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g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inform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 din Planul dumneavoast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de Unitat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f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de calcul tabelar onlin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;(specificaţi numele dumneavoastră pe lini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naliz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uni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le care sunt create de ceila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profesori din intervalul claselor la care pred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dumneavoast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Lu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considerare urm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oarele aspect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momentul analizei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ni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le lor sunt similare sau complementare acesteia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ctivitatea desfasura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cu un alt profesor ar fi benefic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pentru dumneavoastr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pe masur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ce va dezvolt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ideile de unitat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componentele portofoliului de unitate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tact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profesorii cu care 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dori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colabor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Scrie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impresii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le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pe care le ave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despre uni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le colegilor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oloana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trebare/Observ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0889-CEB9-4B68-96EC-A0D69A7930E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  6: Utilizarea site-ului de colaborare online pentru a face schimburi de ide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3.21)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2016000"/>
            <a:ext cx="823752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t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asupra urm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oarelor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treb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grupuri mici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d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vedere punctel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provo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ile fie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ui instrument, cum ar putea acestea 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jute 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ting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obiectivele d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 ale uni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 dumneavoast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m 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putea structura utilizarea instrumentelor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sala de cla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entru a 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sigura 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elevi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e schimb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i propun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?(extin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ideile pentru utilizarea In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netulu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unitatea dumneavoast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 pe parcursul activi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 Planificarea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avan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formatii despre construirea unui site de editare in colaborare pentru propriul curs ( pag B31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4BF9-A6A9-4AA5-8272-AE65CC7AF07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 7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ţi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asupra propriei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ţ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 pag 3.22/ 15 minute)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760" y="1574280"/>
            <a:ext cx="83073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Pas  1: Recapitularea modululu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860a8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Elementele cheie pentru modulul 3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nternetul poate fi un instrument puternic de cercetare, colaborare si comunicare cu al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nstruc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unile pentru o utilizare loial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descriu moduril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are materialele protejate de drepturile de autor pot fi folosit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mod legal de c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re profesor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elev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la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istele  bibliografi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 pot fi creat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diverse formate pentru elevi de toate v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stel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tilizarea profesionis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a strategiilor de cercetare permite elevilor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profesorilor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g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seasc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inform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i utile pe web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mod eficient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 varietate de factori  trebuie lu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onsiderar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momentul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are se stabile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e credibilitatea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valoarea unui site web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nstrumentele care permit elevilor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comunice cu persoane din toa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lumea prin Internet: E-mail, Chat-uri online, mesaje instant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protocol pentru Internet  Voice Over IP;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log-uri, wik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documente  online, permit elevilor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colaboreze la proiecte prin partajarea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oferirea de r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spunsuri cu privire la activitatea celorlalte persoan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908000"/>
            <a:ext cx="8534160" cy="3857760"/>
          </a:xfrm>
          <a:prstGeom prst="rect">
            <a:avLst/>
          </a:prstGeom>
          <a:noFill/>
          <a:ln w="2844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CEED-D062-4E7F-A49B-102DD543EA2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5760" y="1625760"/>
            <a:ext cx="8237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as 2: Introducerea experien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ei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n b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asupra activi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lor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abord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ilor inclus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acest modul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blog-ul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personal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schi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blog-ul: </a:t>
            </a:r>
            <a:r>
              <a:rPr b="0" lang="en-US" sz="1600" spc="-1" strike="noStrike">
                <a:solidFill>
                  <a:srgbClr val="ff5c00"/>
                </a:solidFill>
                <a:latin typeface="Verdana"/>
              </a:rPr>
              <a:t>Add UR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flect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asupra modulu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care punctul central al acestui modul v-a ajutat 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lanific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re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unitatea dumneavoast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c2e86"/>
                </a:solidFill>
                <a:latin typeface="Verdana"/>
              </a:rPr>
              <a:t>Cum pot utiliza Internetul pentru a sprijini procesul meu de predare si procesul de </a:t>
            </a:r>
            <a:r>
              <a:rPr b="0" i="1" lang="ro-RO" sz="1400" spc="-1" strike="noStrike">
                <a:solidFill>
                  <a:srgbClr val="0c2e86"/>
                </a:solidFill>
                <a:latin typeface="Verdana"/>
              </a:rPr>
              <a:t>î</a:t>
            </a:r>
            <a:r>
              <a:rPr b="0" i="1" lang="en-US" sz="1400" spc="-1" strike="noStrike">
                <a:solidFill>
                  <a:srgbClr val="0c2e86"/>
                </a:solidFill>
                <a:latin typeface="Verdana"/>
              </a:rPr>
              <a:t>nv</a:t>
            </a:r>
            <a:r>
              <a:rPr b="0" i="1" lang="ro-RO" sz="1400" spc="-1" strike="noStrike">
                <a:solidFill>
                  <a:srgbClr val="0c2e86"/>
                </a:solidFill>
                <a:latin typeface="Verdana"/>
              </a:rPr>
              <a:t>ăţ</a:t>
            </a:r>
            <a:r>
              <a:rPr b="0" i="1" lang="en-US" sz="1400" spc="-1" strike="noStrike">
                <a:solidFill>
                  <a:srgbClr val="0c2e86"/>
                </a:solidFill>
                <a:latin typeface="Verdana"/>
              </a:rPr>
              <a:t>are al elevilor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c2e86"/>
                </a:solidFill>
                <a:latin typeface="Verdana"/>
              </a:rPr>
              <a:t>Cum pot s</a:t>
            </a:r>
            <a:r>
              <a:rPr b="0" i="1" lang="ro-RO" sz="1400" spc="-1" strike="noStrike">
                <a:solidFill>
                  <a:srgbClr val="0c2e86"/>
                </a:solidFill>
                <a:latin typeface="Verdana"/>
              </a:rPr>
              <a:t>ă</a:t>
            </a:r>
            <a:r>
              <a:rPr b="0" i="1" lang="en-US" sz="1400" spc="-1" strike="noStrike">
                <a:solidFill>
                  <a:srgbClr val="0c2e86"/>
                </a:solidFill>
                <a:latin typeface="Verdana"/>
              </a:rPr>
              <a:t> asigur utlizarea responsabil</a:t>
            </a:r>
            <a:r>
              <a:rPr b="0" i="1" lang="ro-RO" sz="1400" spc="-1" strike="noStrike">
                <a:solidFill>
                  <a:srgbClr val="0c2e86"/>
                </a:solidFill>
                <a:latin typeface="Verdana"/>
              </a:rPr>
              <a:t>ă</a:t>
            </a:r>
            <a:r>
              <a:rPr b="0" i="1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400" spc="-1" strike="noStrike">
                <a:solidFill>
                  <a:srgbClr val="0c2e86"/>
                </a:solidFill>
                <a:latin typeface="Verdana"/>
              </a:rPr>
              <a:t>ş</a:t>
            </a:r>
            <a:r>
              <a:rPr b="0" i="1" lang="en-US" sz="1400" spc="-1" strike="noStrike">
                <a:solidFill>
                  <a:srgbClr val="0c2e86"/>
                </a:solidFill>
                <a:latin typeface="Verdana"/>
              </a:rPr>
              <a:t>i corespunz</a:t>
            </a:r>
            <a:r>
              <a:rPr b="0" i="1" lang="ro-RO" sz="1400" spc="-1" strike="noStrike">
                <a:solidFill>
                  <a:srgbClr val="0c2e86"/>
                </a:solidFill>
                <a:latin typeface="Verdana"/>
              </a:rPr>
              <a:t>ă</a:t>
            </a:r>
            <a:r>
              <a:rPr b="0" i="1" lang="en-US" sz="1400" spc="-1" strike="noStrike">
                <a:solidFill>
                  <a:srgbClr val="0c2e86"/>
                </a:solidFill>
                <a:latin typeface="Verdana"/>
              </a:rPr>
              <a:t>toare a Internetului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and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-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la modul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care cuno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le pe care le-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dob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dit din acest modul vor avea impact asupra procesului de predar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a procesului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 al elevilor.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registr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-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p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rile, elementele chei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t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treb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ile sau problemel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refle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ile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 pag 3.22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66680"/>
            <a:ext cx="9144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 7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 Reflec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ţi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asupra propriei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ţ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 pag 3.22/ 15 minute)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773840" y="147600"/>
          <a:ext cx="1094040" cy="854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3840" y="147600"/>
                    <a:ext cx="10940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D059E-5263-464A-832E-F5C3080EF14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3200" y="-3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lanificarea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 avans</a:t>
            </a:r>
            <a:br>
              <a:rPr sz="26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Includerea Internetulu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3.23/ 5 minute prezent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general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5120" y="1133640"/>
            <a:ext cx="8307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3880" indent="-2638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aliz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ideile de brainstorming de la pagina 3.03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not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le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e la pagina 3.21 pentru a integra Internetul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unitatea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tabelul de la pagina 3.23, selec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una sau mai multe instrumente Internet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descri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pe scurt moduril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care le v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utiliza pentru a sprijini obiectivele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 ale uni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i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Not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belul ,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link-urile adnotate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e instrumentele suplimentare bazate pe web  sunt disponibil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directorul Modulul3/Planificarea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avans de pe CD-ul cu resurse curricul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) Cum ar putea oricare din urmatoarele tehnologii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bu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procesul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 al elevilor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unitatea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) Ce resurs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instru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uni trebuie s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furniz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elevilor pentru a 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asigura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utilizarea Internetului de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e ac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a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bu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e procesul lor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9B82-9C3E-4E03-A7E9-7601E95A546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50702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5864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44440" y="509220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Predarea în societatea cunoaşter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ul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u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3: Realizarea conexiunil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59720" y="490680"/>
            <a:ext cx="1774800" cy="885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17440" y="630720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rm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orul modu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85840" y="1069920"/>
          <a:ext cx="8578800" cy="4238640"/>
        </p:xfrm>
        <a:graphic>
          <a:graphicData uri="http://schemas.openxmlformats.org/drawingml/2006/table">
            <a:tbl>
              <a:tblPr/>
              <a:tblGrid>
                <a:gridCol w="2611440"/>
                <a:gridCol w="5967360"/>
              </a:tblGrid>
              <a:tr h="48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4: Crearea e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ntioanelor de 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unctul central:</a:t>
                      </a:r>
                      <a:r>
                        <a:rPr b="0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Obiectivele proiectului din perspectiva elevi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Obiective: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dentificarea strategiilor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 procedurilor de siguran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 utilizarea corespunz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oare a Internetului (Politica Utiliz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ii Acceptabile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area celui mai bun instrument de prezentare pentru a demonstra ceea ce a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t elevul :realizarea  unei publicatii, prezent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i, wiki sau blo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rasarea Instruc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unilor procedurale pentru Unitatea de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utoevaluarea elevi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flec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ile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arii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 blog-ul pers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8DB9-B5AA-4A2E-A848-0BAAF4BFD7F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2355840"/>
            <a:ext cx="485136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5034960" y="49021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23A1-BC95-44E3-AA71-7D8EA4A4CC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115920"/>
            <a:ext cx="805788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Ce am studiat 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până acum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?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6920" y="2085840"/>
            <a:ext cx="4145040" cy="24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 1: Predarea prin proiect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Invă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t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area bazată pe proiect şi 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design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-ul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unităţii de învăţar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 2: 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</a:rPr>
              <a:t>Proiectarea propriei u</a:t>
            </a:r>
            <a:r>
              <a:rPr b="1" lang="en-US" sz="1400" spc="-1" strike="noStrike">
                <a:solidFill>
                  <a:srgbClr val="0c2e86"/>
                </a:solidFill>
                <a:latin typeface="Verdana"/>
              </a:rPr>
              <a:t>nit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</a:rPr>
              <a:t>ăţi de învăţar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Întrebările generatoare ale unităţii de învăţare şi evaluarea continuă centrată pe elev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55880" y="1371240"/>
            <a:ext cx="404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3480" y="849240"/>
            <a:ext cx="451944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6114-14A6-4450-A1FD-BA253EE890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5800" y="0"/>
            <a:ext cx="82375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nde ne af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lăm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 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7080" y="4118040"/>
            <a:ext cx="8645400" cy="186840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Intrebarea esential</a:t>
            </a: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um poate fi utiliza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tehnologi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în mod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 eficient pentru a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usţine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si evalua procesul d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are al elevilor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Intreb</a:t>
            </a: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ri referitoare la modul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um pot utiliza Internetul pentru a sprijini procesul meu de predare si procesul d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are al elevilor 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um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se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o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a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asigura o utilizare responsabil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si corespunz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oare a Internetului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428760"/>
          <a:ext cx="8610480" cy="3679560"/>
        </p:xfrm>
        <a:graphic>
          <a:graphicData uri="http://schemas.openxmlformats.org/drawingml/2006/table">
            <a:tbl>
              <a:tblPr/>
              <a:tblGrid>
                <a:gridCol w="2338560"/>
                <a:gridCol w="6271920"/>
              </a:tblGrid>
              <a:tr h="41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e 3: Realizarea conexiuni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ementul central: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Internet</a:t>
                      </a:r>
                      <a:r>
                        <a:rPr b="0" lang="ro-RO" sz="16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ul ca </a:t>
                      </a:r>
                      <a:r>
                        <a:rPr b="0" lang="en-US" sz="16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uport </a:t>
                      </a:r>
                      <a:r>
                        <a:rPr b="0" lang="ro-RO" sz="16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al predării şi învăţăr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Obiective: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ilizarea 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 crearea unui wiki pentru a schimba idei pentru atingerea standardelor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(competenţe specifice /obiective de referinţă)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tr-o clas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centrat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pe ele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egerea legilor copyright-ului( dreptul de autor)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 utilizarea acesto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lizare de documente cu lucr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i cit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ntegrarea si utilizarea resurselor Internet 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 c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area, comunicarea,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olaborarea,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zolvarea problemelor pentru  dezvoltarea abilit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ţ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lor secolului XXI 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ilizarea unei resurse de colaborare online pentru a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schimba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id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flectarea asupra propriului proces de 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ţ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DD30-8EA9-4CE5-B36C-5241AF7418C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73120" y="328680"/>
            <a:ext cx="4068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1" lang="ro-RO" sz="3200" spc="-1" strike="noStrike">
                <a:solidFill>
                  <a:srgbClr val="0860a8"/>
                </a:solidFill>
                <a:latin typeface="Verdana"/>
              </a:rPr>
              <a:t>ătre ce ne îndreptăm</a:t>
            </a: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59480" y="14400"/>
            <a:ext cx="4484520" cy="5995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47600" y="1881360"/>
            <a:ext cx="441504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4: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Crea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rea unor  produse-mode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ale învăţării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Produsele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elevilor 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(pre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z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enta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re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, publica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ţie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, wiki, blog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5: Evaluarea proiectelor elevilor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Evaluare formativ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si sumativ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6: P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roiectarea pentru succesul elevilor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Sprijinirea elevilor şi stimularea autonomiei în învăţare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7: Facilitare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a procesului predare-învăţare-evaluare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prin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intermediul tehnologiei informaţiei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Profesorul ca facilitator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8:Prezentarea portofoliilor unit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tilor de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î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nv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tare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Discutarea 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î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nv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ţă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rii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2557-F46F-4A3F-B4D9-3D9B5CE6F3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1695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municarea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 perechi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i schimb de idei asupra  experien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elor pentru a stabili nevoile elevilor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pag 3.01/ 30 de minute)</a:t>
            </a:r>
            <a:br>
              <a:rPr sz="1600"/>
            </a:b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5760" y="1993680"/>
            <a:ext cx="82375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cuta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treb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ile de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generare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roiectelo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extrageţi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idei pentru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bun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re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a acestora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artaja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i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prezentarea dumneavoastr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pentru a stabili nevoile elevilor.Furniza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r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punsuri la urm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oarele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treb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i in timp ce discuta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re este scopul general al evalu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ii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e dor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s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de la elevii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um 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cercat s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promov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abili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le de g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dire de ordin superior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um 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vor ajuta inform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ile de evaluare pe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pe elevii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planificarea activi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lor viitoare din cadrul uni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i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e reac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i sau idei suplimentare c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uta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 decursul timpului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245360" y="973080"/>
          <a:ext cx="1471680" cy="1046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5360" y="973080"/>
                    <a:ext cx="147168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CAF88-1F4E-41E6-855E-58A6D235E66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6040" y="16812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ractici Pedagogice</a:t>
            </a: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tingerea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competenţelor specifice/obiectivelor de referinţă în învăţarea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centrat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pe elev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pag 3.02/ 30 minute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4600" y="1925280"/>
            <a:ext cx="823752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i privind aspectele problematic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posibilele solu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i pentru atingerea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etenţelor specifice/obiectivelor de referinţ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tr-o clas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entra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pe elev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ecare grup discu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 singu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trebar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m pot 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m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sigur 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elevii ating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ompetenţele specifice/ obiectivele de referinţă la nivel optim din punct de vedere calitativ şi cantitativ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cazul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care elevii se ocup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de propriul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roc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, cum putem noi fi siguri 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eea ce este important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m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ot să mă asigur că în cadrul echipei, fiecare elev îşi asumă sarcinile de lucru cu responsabilitat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 persoa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in grup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e va conecta pe adresa site-ului web wiki(URL)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va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registra punctul de vedere al grupului respectiv: </a:t>
            </a:r>
            <a:r>
              <a:rPr b="0" lang="en-US" sz="1800" spc="-1" strike="noStrike">
                <a:solidFill>
                  <a:srgbClr val="ff5c00"/>
                </a:solidFill>
                <a:latin typeface="Verdana"/>
              </a:rPr>
              <a:t> URL www.romaniaessentialsv10.wik.is</a:t>
            </a: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paginile celorlalte echip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ad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g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element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lista lor de solu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7A10-52B2-4353-8397-C5245BDA1E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1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Identificarea şi selectarea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abilit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ilor necesare 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n secolul XXI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pag 3.03/ 15 minute/ abili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le secolului XXI- pag 1.02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1880" y="2016000"/>
            <a:ext cx="8237520" cy="22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d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-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la modalitaţ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e includere a anumitor abili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ale secolului XXI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unitatea dvs.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, document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, comunicare, colaborar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rezolvare a problemelo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s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ideile pentru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treb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ile de la pagina  3.03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tr-un grup mic g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d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-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um 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putea include Internetul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clasa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pentru a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bu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procesul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 al elevilor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ceea ce priv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ocumentarea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, comunicarea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colaborarea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051440" y="4734000"/>
          <a:ext cx="1257120" cy="961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1440" y="4734000"/>
                    <a:ext cx="12571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098800" y="4724280"/>
          <a:ext cx="1247760" cy="9748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8800" y="4724280"/>
                    <a:ext cx="124776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95D3-BAD7-46E1-962F-41F236327EA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7478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2</a:t>
            </a:r>
            <a:br>
              <a:rPr sz="26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Discutarea aspectelor legale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şi etice cu privire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la utilizarea tehnologiei (40 minute)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280" y="1972800"/>
            <a:ext cx="886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Pas 1: Investigarea dreptului de autor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3.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arcurge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completa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testul (6 itemi) privind drepturile de autor)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Vizualiza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i prezentarea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 “Haosul Drepturilor de autor”/ ”Copyright Chaos”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cuta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ce impact vor avea legea drepturilor de autor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urm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oarele instruc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uni de utilizare loial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supra clasei dvs.( Specifica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ce strategii ve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folosi dvs. pentru a v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sigura c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elevii dvs.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leg drepturile de autor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utilizarea lor loial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Discuta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proceduri speciale de asisten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pe care le pute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implementa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 clasa dvs. pentru a v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sigura ca instruc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unile sunt respectat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038560" y="141120"/>
          <a:ext cx="1133640" cy="885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8560" y="141120"/>
                    <a:ext cx="11336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505560" y="146160"/>
          <a:ext cx="1216080" cy="949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05560" y="146160"/>
                    <a:ext cx="1216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7896240" y="173160"/>
          <a:ext cx="1052640" cy="766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96240" y="173160"/>
                    <a:ext cx="10526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4575-966C-416A-8331-A24B2169760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Colegiul National</cp:lastModifiedBy>
  <cp:lastPrinted>2006-11-14T00:45:04Z</cp:lastPrinted>
  <dcterms:modified xsi:type="dcterms:W3CDTF">2007-08-27T05:14:49Z</dcterms:modified>
  <cp:revision>232</cp:revision>
  <dc:subject/>
  <dc:title>Presentation Title Goes Here</dc:title>
</cp:coreProperties>
</file>